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10A-EFCC-43D5-9C73-693590F2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3BC-4CE4-4CA5-B944-1413BD72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2C8-1BB6-462F-B067-5563D5A1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B5D-2899-4D10-B66C-84491148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F6B-FE53-4FBE-A410-96D48217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319-1D40-4B46-BE3C-42E16E37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96E-D633-45D0-99F9-13609B4C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712-63E4-4F55-AF10-924CF96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CCD-E676-461B-ADE8-EF607F71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757-7BF1-4E18-BF67-E606DC4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8F0-AF43-4FE0-A4B2-5ED9C34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BC6-6754-4CBC-993E-CE60EB23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79D5-D730-4560-8888-876974EC4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19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1332000" y="1197000"/>
            <a:ext cx="64087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979640" y="1530360"/>
            <a:ext cx="532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539640" y="1341360"/>
            <a:ext cx="80409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16000" y="1509840"/>
            <a:ext cx="70977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dotdotdot.ru/img/Solar_System.jpg"/>
          <p:cNvPicPr/>
          <p:nvPr/>
        </p:nvPicPr>
        <p:blipFill>
          <a:blip r:embed="rId2"/>
          <a:stretch/>
        </p:blipFill>
        <p:spPr>
          <a:xfrm>
            <a:off x="826920" y="1351080"/>
            <a:ext cx="73454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611280" y="1628640"/>
            <a:ext cx="7848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mywidescreenwallpapers.com/wallpapers/various_10/earth_and_the_moon_widescreen_wallpaper_44432.jpg"/>
          <p:cNvPicPr/>
          <p:nvPr/>
        </p:nvPicPr>
        <p:blipFill>
          <a:blip r:embed="rId2"/>
          <a:srcRect l="15309" t="0" r="12387" b="0"/>
          <a:stretch/>
        </p:blipFill>
        <p:spPr>
          <a:xfrm>
            <a:off x="1763640" y="1573200"/>
            <a:ext cx="51656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1116000" y="1268280"/>
            <a:ext cx="70786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gameru.net/forum/uploads/1302632274/gallery_13942_499_51531.png"/>
          <p:cNvPicPr/>
          <p:nvPr/>
        </p:nvPicPr>
        <p:blipFill>
          <a:blip r:embed="rId2"/>
          <a:srcRect l="0" t="0" r="10956" b="0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5/58/Russian_space_suit_3.jpg"/>
          <p:cNvPicPr/>
          <p:nvPr/>
        </p:nvPicPr>
        <p:blipFill>
          <a:blip r:embed="rId2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yeniresim.com/data/media/353/www.yeniresim.com_-_Uzay_Resimleri_-_Astronot.jpg"/>
          <p:cNvPicPr/>
          <p:nvPr/>
        </p:nvPicPr>
        <p:blipFill>
          <a:blip r:embed="rId3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2124000" y="1606680"/>
            <a:ext cx="523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1258920" y="1424160"/>
            <a:ext cx="619272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Екатерина Кротова</cp:lastModifiedBy>
  <dcterms:modified xsi:type="dcterms:W3CDTF">2015-04-14T20:51:50Z</dcterms:modified>
  <cp:revision>21</cp:revision>
  <dc:subject/>
  <dc:title>Слайд 1</dc:title>
</cp:coreProperties>
</file>