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45A-453A-4E6E-AE24-C09D8469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04D-3F37-4BB0-B09C-22C8C76D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F6E-76E0-49C6-9042-DDE678B4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0ED-C841-4036-B15F-F18BEB4C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709-D4DF-4092-AE56-1411EA92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A10-0DD3-4B11-A0FB-AA689C8D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A72-01B2-490F-8997-F6022D86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D42-5B8D-4396-8B97-86155D8C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447-7D24-4DEA-B19D-67353F28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A8B-56AB-4CC3-98BD-FC662321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ACA-2DA1-45FD-8F64-88C6433A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0BE-BF70-4F0D-AD6D-AC202DC1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4346-5727-45C4-BF5E-2EBE64224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2050920" y="1844640"/>
            <a:ext cx="5329440" cy="399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190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yapfiles.ru/files/392806/moonnew.jpg"/>
          <p:cNvPicPr/>
          <p:nvPr/>
        </p:nvPicPr>
        <p:blipFill>
          <a:blip r:embed="rId2"/>
          <a:stretch/>
        </p:blipFill>
        <p:spPr>
          <a:xfrm>
            <a:off x="1332000" y="1197000"/>
            <a:ext cx="64087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979640" y="1530360"/>
            <a:ext cx="5329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539640" y="1341360"/>
            <a:ext cx="80409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1116000" y="1509840"/>
            <a:ext cx="70977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ой картинке ты можешь увидеть какие разные по размеру бывают планеты и какое большое оказывается наше Солнце. С Земли Солнце нам кажется не таким большим, потому что оно очень далеко от нас. На самом деле – вот какое оно огромное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dotdotdot.ru/img/Solar_System.jpg"/>
          <p:cNvPicPr/>
          <p:nvPr/>
        </p:nvPicPr>
        <p:blipFill>
          <a:blip r:embed="rId2"/>
          <a:stretch/>
        </p:blipFill>
        <p:spPr>
          <a:xfrm>
            <a:off x="826920" y="1351080"/>
            <a:ext cx="734544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611280" y="1628640"/>
            <a:ext cx="7848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mywidescreenwallpapers.com/wallpapers/various_10/earth_and_the_moon_widescreen_wallpaper_44432.jpg"/>
          <p:cNvPicPr/>
          <p:nvPr/>
        </p:nvPicPr>
        <p:blipFill>
          <a:blip r:embed="rId2"/>
          <a:srcRect l="15309" t="0" r="12387" b="0"/>
          <a:stretch/>
        </p:blipFill>
        <p:spPr>
          <a:xfrm>
            <a:off x="1763640" y="1573200"/>
            <a:ext cx="51656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1116000" y="1268280"/>
            <a:ext cx="70786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gameru.net/forum/uploads/1302632274/gallery_13942_499_51531.png"/>
          <p:cNvPicPr/>
          <p:nvPr/>
        </p:nvPicPr>
        <p:blipFill>
          <a:blip r:embed="rId2"/>
          <a:srcRect l="0" t="0" r="10956" b="0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upload.wikimedia.org/wikipedia/commons/5/58/Russian_space_suit_3.jpg"/>
          <p:cNvPicPr/>
          <p:nvPr/>
        </p:nvPicPr>
        <p:blipFill>
          <a:blip r:embed="rId2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yeniresim.com/data/media/353/www.yeniresim.com_-_Uzay_Resimleri_-_Astronot.jpg"/>
          <p:cNvPicPr/>
          <p:nvPr/>
        </p:nvPicPr>
        <p:blipFill>
          <a:blip r:embed="rId3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2124000" y="1606680"/>
            <a:ext cx="523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1258920" y="1424160"/>
            <a:ext cx="619272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Екатерина Кротова</cp:lastModifiedBy>
  <dcterms:modified xsi:type="dcterms:W3CDTF">2015-04-14T20:51:50Z</dcterms:modified>
  <cp:revision>21</cp:revision>
  <dc:subject/>
  <dc:title>Слайд 1</dc:title>
</cp:coreProperties>
</file>