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A80-2375-46EE-931B-0EC59719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E8D-1901-4184-BAE4-86025D6E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BF6-CEA9-44FB-AFFC-E05B0ADB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EB9-8A42-4055-BFF2-979378CD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495-7AA2-4870-BDE5-3D9C06B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598-07D8-40AD-B740-B07D3A9D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67D-B616-420A-A64F-BDAF4871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681-CFFF-4171-95EA-BA3639CA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CD3-A016-47DF-ABE6-3ADC9750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5C8-DE3A-4007-A35D-F9831045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1BA-9642-4412-B923-E4EF2D76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3F0-F3E9-4F9C-BEBB-25393873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ABB2-5CBC-464A-A6CB-ECCFCBE286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2050920" y="1844640"/>
            <a:ext cx="5329440" cy="399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190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yapfiles.ru/files/392806/moonnew.jpg"/>
          <p:cNvPicPr/>
          <p:nvPr/>
        </p:nvPicPr>
        <p:blipFill>
          <a:blip r:embed="rId2"/>
          <a:stretch/>
        </p:blipFill>
        <p:spPr>
          <a:xfrm>
            <a:off x="1332000" y="1197000"/>
            <a:ext cx="64087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979640" y="1530360"/>
            <a:ext cx="5329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539640" y="1341360"/>
            <a:ext cx="80409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1116000" y="1509840"/>
            <a:ext cx="70977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ой картинке ты можешь увидеть какие разные по размеру бывают планеты и какое большое оказывается наше Солнце. С Земли Солнце нам кажется не таким большим, потому что оно очень далеко от нас. На самом деле – вот какое оно огромное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dotdotdot.ru/img/Solar_System.jpg"/>
          <p:cNvPicPr/>
          <p:nvPr/>
        </p:nvPicPr>
        <p:blipFill>
          <a:blip r:embed="rId2"/>
          <a:stretch/>
        </p:blipFill>
        <p:spPr>
          <a:xfrm>
            <a:off x="826920" y="1351080"/>
            <a:ext cx="734544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611280" y="1628640"/>
            <a:ext cx="7848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mywidescreenwallpapers.com/wallpapers/various_10/earth_and_the_moon_widescreen_wallpaper_44432.jpg"/>
          <p:cNvPicPr/>
          <p:nvPr/>
        </p:nvPicPr>
        <p:blipFill>
          <a:blip r:embed="rId2"/>
          <a:srcRect l="15309" t="0" r="12387" b="0"/>
          <a:stretch/>
        </p:blipFill>
        <p:spPr>
          <a:xfrm>
            <a:off x="1763640" y="1573200"/>
            <a:ext cx="51656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1116000" y="1268280"/>
            <a:ext cx="70786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gameru.net/forum/uploads/1302632274/gallery_13942_499_51531.png"/>
          <p:cNvPicPr/>
          <p:nvPr/>
        </p:nvPicPr>
        <p:blipFill>
          <a:blip r:embed="rId2"/>
          <a:srcRect l="0" t="0" r="10956" b="0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upload.wikimedia.org/wikipedia/commons/5/58/Russian_space_suit_3.jpg"/>
          <p:cNvPicPr/>
          <p:nvPr/>
        </p:nvPicPr>
        <p:blipFill>
          <a:blip r:embed="rId2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yeniresim.com/data/media/353/www.yeniresim.com_-_Uzay_Resimleri_-_Astronot.jpg"/>
          <p:cNvPicPr/>
          <p:nvPr/>
        </p:nvPicPr>
        <p:blipFill>
          <a:blip r:embed="rId3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2124000" y="1606680"/>
            <a:ext cx="523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1258920" y="1424160"/>
            <a:ext cx="619272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Екатерина Кротова</cp:lastModifiedBy>
  <dcterms:modified xsi:type="dcterms:W3CDTF">2015-04-14T20:51:50Z</dcterms:modified>
  <cp:revision>21</cp:revision>
  <dc:subject/>
  <dc:title>Слайд 1</dc:title>
</cp:coreProperties>
</file>